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wmf" ContentType="image/x-wmf"/>
  <Override PartName="/ppt/media/image25.wmf" ContentType="image/x-wmf"/>
  <Override PartName="/ppt/media/image22.png" ContentType="image/png"/>
  <Override PartName="/ppt/media/CASHREG.WAV" ContentType="audio/x-wav"/>
  <Override PartName="/ppt/media/image14.png" ContentType="image/png"/>
  <Override PartName="/ppt/media/image20.png" ContentType="image/png"/>
  <Override PartName="/ppt/media/image18.wmf" ContentType="image/x-wmf"/>
  <Override PartName="/ppt/media/image19.wmf" ContentType="image/x-wmf"/>
  <Override PartName="/ppt/media/image21.png" ContentType="image/png"/>
  <Override PartName="/ppt/media/image23.wmf" ContentType="image/x-wmf"/>
  <Override PartName="/ppt/media/image6.png" ContentType="image/png"/>
  <Override PartName="/ppt/media/image11.png" ContentType="image/png"/>
  <Override PartName="/ppt/media/image30.wmf" ContentType="image/x-wmf"/>
  <Override PartName="/ppt/media/image10.png" ContentType="image/png"/>
  <Override PartName="/ppt/media/image9.png" ContentType="image/png"/>
  <Override PartName="/ppt/media/image17.wmf" ContentType="image/x-wmf"/>
  <Override PartName="/ppt/media/image27.wmf" ContentType="image/x-wmf"/>
  <Override PartName="/ppt/media/image31.jpeg" ContentType="image/jpeg"/>
  <Override PartName="/ppt/media/image2.png" ContentType="image/png"/>
  <Override PartName="/ppt/media/image32.wmf" ContentType="image/x-wmf"/>
  <Override PartName="/ppt/media/image12.png" ContentType="image/png"/>
  <Override PartName="/ppt/media/image28.wmf" ContentType="image/x-wmf"/>
  <Override PartName="/ppt/media/CHIMES.WAV" ContentType="audio/x-wav"/>
  <Override PartName="/ppt/media/image35.wmf" ContentType="image/x-wmf"/>
  <Override PartName="/ppt/media/image15.png" ContentType="image/png"/>
  <Override PartName="/ppt/media/image36.wmf" ContentType="image/x-wmf"/>
  <Override PartName="/ppt/media/image5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3.png" ContentType="image/png"/>
  <Override PartName="/ppt/media/image16.gif" ContentType="image/gif"/>
  <Override PartName="/ppt/media/sn00542a.wav" ContentType="audio/x-wav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997F-79CA-4DAF-8B1C-EFA19CB36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06360" y="2209680"/>
            <a:ext cx="2235240" cy="16765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409760" y="1905120"/>
            <a:ext cx="2438280" cy="18288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33720" y="1295280"/>
            <a:ext cx="2539800" cy="1905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930320" y="2362320"/>
            <a:ext cx="1727280" cy="1295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90F-02E8-48DD-82D0-331519AA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495-6A67-4C21-A191-1E1F7900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5E7-320E-42B0-93E1-A46E3301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724-1B29-43E3-8F63-8FC49814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4ABE-BC7B-4ACA-89FF-C4025899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FB0A-EA72-473C-89E5-519A8F05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4A1D-B226-49C5-83E0-68EC7A1A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1DAC-C79D-4F6A-8EEA-B5859205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9F82-0DDB-4C5A-800D-94B00F3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7EC9-DB86-4781-A2F1-0AC9CFC0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79FF-BFB4-456D-B1CF-248C4139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3C9-5B74-456E-B955-23B2BF55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9B59-E0C6-483F-86C9-A2EA78D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732A-309C-4324-84F6-72F91BB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78F1-D7AB-44C4-827B-7F4BAC3D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D7A1-0207-4299-A7FF-9D5135A9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4A16-4D6A-44E8-933B-C9BF55F9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E21-3AA6-4CEC-8420-7CAE7D60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81C-17BA-47D0-8674-E221BCBC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93A-76EC-4B6F-BA36-A22F378B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599-8FDE-437A-9767-614E1124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AC7-2FE8-4DB3-A135-7F12C1C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063-4CB4-411A-B241-6DC82F9B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0EA-CC04-4EC2-9C3B-AA1A9AD1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520C-CFF7-4C68-ADB7-8CDB154A44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39A-949E-4193-BF10-E1106C0DCB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audio" Target="../media/sn00542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8.wmf"/><Relationship Id="rId5" Type="http://schemas.openxmlformats.org/officeDocument/2006/relationships/image" Target="../media/image31.jpeg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labour.gov.sk.ca/" TargetMode="External"/><Relationship Id="rId3" Type="http://schemas.openxmlformats.org/officeDocument/2006/relationships/hyperlink" Target="http://www.labour.gov.sk.ca/" TargetMode="External"/><Relationship Id="rId4" Type="http://schemas.openxmlformats.org/officeDocument/2006/relationships/hyperlink" Target="http://www.labour.gov.sk.ca/" TargetMode="External"/><Relationship Id="rId5" Type="http://schemas.openxmlformats.org/officeDocument/2006/relationships/hyperlink" Target="http://www.labour.gov.sk.ca/" TargetMode="External"/><Relationship Id="rId6" Type="http://schemas.openxmlformats.org/officeDocument/2006/relationships/hyperlink" Target="http://www.labour.gov.sk.ca/" TargetMode="External"/><Relationship Id="rId7" Type="http://schemas.openxmlformats.org/officeDocument/2006/relationships/hyperlink" Target="http://www.labour.gov.sk.ca/" TargetMode="External"/><Relationship Id="rId8" Type="http://schemas.openxmlformats.org/officeDocument/2006/relationships/hyperlink" Target="http://www.labour.gov.sk.ca/" TargetMode="External"/><Relationship Id="rId9" Type="http://schemas.openxmlformats.org/officeDocument/2006/relationships/hyperlink" Target="http://www.labour.gov.sk.ca/" TargetMode="External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5800" y="660240"/>
          <a:ext cx="722160" cy="7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60240"/>
                    <a:ext cx="72216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60440" y="609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Saskatchewan Lab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8380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resenta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320" y="6084720"/>
          <a:ext cx="1447560" cy="6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6084720"/>
                    <a:ext cx="14475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752480" y="1905120"/>
          <a:ext cx="6248520" cy="487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1905120"/>
                    <a:ext cx="624852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828800" y="1523880"/>
            <a:ext cx="624852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33"/>
                </a:solidFill>
                <a:latin typeface="Arial Black"/>
              </a:rPr>
              <a:t>Labour Standar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5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33"/>
                </a:solidFill>
                <a:latin typeface="Arial Black"/>
              </a:rPr>
              <a:t>for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5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33"/>
                </a:solidFill>
                <a:latin typeface="Arial Black"/>
              </a:rPr>
              <a:t>Young Work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F8B-FA90-4A50-932B-9A79862110C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905120"/>
            <a:ext cx="6248520" cy="2057400"/>
          </a:xfrm>
          <a:prstGeom prst="downArrowCallout">
            <a:avLst>
              <a:gd name="adj1" fmla="val 75934"/>
              <a:gd name="adj2" fmla="val 7592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Employees in hotels, restaurants, educational institutions, hospitals, or nursing ho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962520"/>
            <a:ext cx="4876560" cy="2666880"/>
          </a:xfrm>
          <a:prstGeom prst="rightArrowCallout">
            <a:avLst>
              <a:gd name="adj1" fmla="val 32290"/>
              <a:gd name="adj2" fmla="val 25912"/>
              <a:gd name="adj3" fmla="val 50709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Employees who finish work between 12:30 a.m. and 7:00 a.m. local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657600"/>
            <a:ext cx="2743200" cy="281952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819520"/>
              <a:gd name="textAreaBottom" fmla="*/ 2685600 h 2819520"/>
            </a:gdLst>
            <a:ahLst/>
            <a:rect l="textAreaLeft" t="textAreaTop" r="textAreaRight" b="textAreaBottom"/>
            <a:pathLst>
              <a:path w="21600" h="22201">
                <a:moveTo>
                  <a:pt x="3600" y="0"/>
                </a:moveTo>
                <a:arcTo wR="3600" hR="3600" stAng="16200000" swAng="-5400000"/>
                <a:lnTo>
                  <a:pt x="0" y="18601"/>
                </a:lnTo>
                <a:arcTo wR="3600" hR="3600" stAng="10800000" swAng="-5400000"/>
                <a:lnTo>
                  <a:pt x="18000" y="22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29"/>
                </a:solidFill>
                <a:latin typeface="Comic Sans MS"/>
              </a:rPr>
              <a:t>must be provided free of charge to the employee’s place of reside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ransportation Home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AD4-CF4E-4E5D-9671-0DEBA02F6896}" type="slidenum">
              <a:t>10</a:t>
            </a:fld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962520" y="1752480"/>
          <a:ext cx="27921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752480"/>
                    <a:ext cx="2792160" cy="3886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095880" y="852480"/>
            <a:ext cx="24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Overti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533520"/>
            <a:ext cx="2362320" cy="1981080"/>
          </a:xfrm>
          <a:prstGeom prst="wedgeEllipseCallout">
            <a:avLst>
              <a:gd name="adj1" fmla="val 144759"/>
              <a:gd name="adj2" fmla="val 2940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workers are paid over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133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3200400" cy="990360"/>
          </a:xfrm>
          <a:prstGeom prst="wedgeEllipseCallout">
            <a:avLst>
              <a:gd name="adj1" fmla="val 64833"/>
              <a:gd name="adj2" fmla="val -20432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hours/week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876920"/>
            <a:ext cx="3962520" cy="1981080"/>
          </a:xfrm>
          <a:prstGeom prst="wedgeEllipseCallout">
            <a:avLst>
              <a:gd name="adj1" fmla="val -10134"/>
              <a:gd name="adj2" fmla="val -159212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 hours in a week in which a public holiday occur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048120"/>
            <a:ext cx="2971800" cy="1523880"/>
          </a:xfrm>
          <a:prstGeom prst="wedgeEllipseCallout">
            <a:avLst>
              <a:gd name="adj1" fmla="val -45726"/>
              <a:gd name="adj2" fmla="val -105833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a rate of 1.5 x hourly w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590920"/>
            <a:ext cx="2743200" cy="1447560"/>
          </a:xfrm>
          <a:prstGeom prst="wedgeEllipseCallout">
            <a:avLst>
              <a:gd name="adj1" fmla="val 100925"/>
              <a:gd name="adj2" fmla="val -44189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working 8 hours/day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90F-0750-4828-9273-869FA959834E}" type="slidenum">
              <a:t>11</a:t>
            </a:fld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Overtime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ome workers are not eligible for overtime pay such a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5812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•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anag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42670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4720" indent="-504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•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eople working north of Township 62, except within a 10 km. radius of La Ronge, Creighton and Uranium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15200" y="2540160"/>
            <a:ext cx="1828800" cy="187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A1A-9CD6-4CD5-A0AF-5D3C2EE87BE5}" type="slidenum">
              <a:t>12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Workers get work schedules which give one week’s notice of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ork Schedules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29076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9760" indent="-23976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ork days and hou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39304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ork start and end   ti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5029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imes of meal brea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55306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hanges to work sched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16120" y="3100320"/>
          <a:ext cx="2612880" cy="36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3100320"/>
                    <a:ext cx="261288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A6C-E3DA-4377-87E0-AFB824F1ABF9}" type="slidenum">
              <a:t>13</a:t>
            </a:fld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0" y="53499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eal Breaks</a:t>
            </a:r>
            <a:r>
              <a:rPr b="0" i="1" lang="en-US" sz="3600" spc="-1" strike="noStrike">
                <a:solidFill>
                  <a:srgbClr val="ffcc66"/>
                </a:solidFill>
                <a:latin typeface="Bremen Blk BT"/>
              </a:rPr>
              <a:t>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2880" y="24379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orkers who are scheduled to work 6 hours or more get an unpai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0-minute meal break for every five consecutive hours of work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762120" y="3581280"/>
            <a:ext cx="3809880" cy="20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88D-DCFB-415C-9BF6-14BB6C58F0F5}" type="slidenum">
              <a:t>14</a:t>
            </a:fld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n00542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235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Days Off</a:t>
            </a:r>
            <a:br>
              <a:rPr sz="2800"/>
            </a:br>
            <a:br>
              <a:rPr sz="2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1905120"/>
            <a:ext cx="54864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ne day off in every seven days for employees who are usually employed for 20 or more hours/we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98520" indent="-398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895480" cy="2198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00400" y="4114800"/>
            <a:ext cx="563868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wo days off in every seven if employees work 20 or more hours a week in retail and there are 10 or more employees in the busin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lnSpc>
                <a:spcPct val="70000"/>
              </a:lnSpc>
              <a:buClr>
                <a:srgbClr val="ffff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215-7FC0-4391-8992-62C0FF0B1186}" type="slidenum">
              <a:t>15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14600" y="5556240"/>
            <a:ext cx="1600200" cy="1225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Illness/Injury</a:t>
            </a: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71952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serious                         12 days in a calendar ye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44053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rious                                12 weeks in  a 52 wee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ri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3356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CB                                    26 wee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62120" y="2514600"/>
            <a:ext cx="7619760" cy="838080"/>
            <a:chOff x="762120" y="2514600"/>
            <a:chExt cx="7619760" cy="838080"/>
          </a:xfrm>
        </p:grpSpPr>
        <p:sp>
          <p:nvSpPr>
            <p:cNvPr id="207" name=""/>
            <p:cNvSpPr/>
            <p:nvPr/>
          </p:nvSpPr>
          <p:spPr>
            <a:xfrm>
              <a:off x="4682520" y="2514600"/>
              <a:ext cx="362484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Length of Protected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bsence (unpaid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83880" y="2685600"/>
              <a:ext cx="32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Type of Illness/Injur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3352680"/>
              <a:ext cx="76197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5B9-EA54-4AAA-95E3-8DE61324D114}" type="slidenum">
              <a:t>16</a:t>
            </a:fld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ffcc66"/>
                </a:solidFill>
                <a:latin typeface="BibleScrT"/>
              </a:rPr>
              <a:t>	</a:t>
            </a:r>
            <a:r>
              <a:rPr b="0" i="1" lang="en-US" sz="4800" spc="-1" strike="noStrike">
                <a:solidFill>
                  <a:srgbClr val="ffcc66"/>
                </a:solidFill>
                <a:latin typeface="BibleScrT"/>
              </a:rPr>
              <a:t>	</a:t>
            </a:r>
            <a:r>
              <a:rPr b="0" i="1" lang="en-US" sz="4800" spc="-1" strike="noStrike">
                <a:solidFill>
                  <a:srgbClr val="ffcc66"/>
                </a:solidFill>
                <a:latin typeface="BibleScrT"/>
              </a:rPr>
              <a:t>	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Laying-off Employees </a:t>
            </a: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0" y="4876920"/>
            <a:ext cx="2286000" cy="16779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1087560" y="2986200"/>
            <a:ext cx="6858000" cy="520560"/>
            <a:chOff x="1087560" y="2986200"/>
            <a:chExt cx="6858000" cy="520560"/>
          </a:xfrm>
        </p:grpSpPr>
        <p:sp>
          <p:nvSpPr>
            <p:cNvPr id="213" name=""/>
            <p:cNvSpPr/>
            <p:nvPr/>
          </p:nvSpPr>
          <p:spPr>
            <a:xfrm>
              <a:off x="1087560" y="29862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0 - 3 mos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02360" y="29862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0 week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09520" y="3747960"/>
            <a:ext cx="6553080" cy="596880"/>
            <a:chOff x="1109520" y="3747960"/>
            <a:chExt cx="6553080" cy="596880"/>
          </a:xfrm>
        </p:grpSpPr>
        <p:sp>
          <p:nvSpPr>
            <p:cNvPr id="216" name=""/>
            <p:cNvSpPr/>
            <p:nvPr/>
          </p:nvSpPr>
          <p:spPr>
            <a:xfrm>
              <a:off x="1109520" y="38242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3 mos. - 1 yea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4320" y="374796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1 wee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066680" y="4510080"/>
            <a:ext cx="6553080" cy="596880"/>
            <a:chOff x="1066680" y="4510080"/>
            <a:chExt cx="6553080" cy="596880"/>
          </a:xfrm>
        </p:grpSpPr>
        <p:sp>
          <p:nvSpPr>
            <p:cNvPr id="219" name=""/>
            <p:cNvSpPr/>
            <p:nvPr/>
          </p:nvSpPr>
          <p:spPr>
            <a:xfrm>
              <a:off x="1066680" y="45864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1 - 3 year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480" y="4510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2 week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09520" y="5348160"/>
            <a:ext cx="6781680" cy="596520"/>
            <a:chOff x="1109520" y="5348160"/>
            <a:chExt cx="6781680" cy="596520"/>
          </a:xfrm>
        </p:grpSpPr>
        <p:sp>
          <p:nvSpPr>
            <p:cNvPr id="222" name=""/>
            <p:cNvSpPr/>
            <p:nvPr/>
          </p:nvSpPr>
          <p:spPr>
            <a:xfrm>
              <a:off x="1109520" y="542412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3 - 5 year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24320" y="53481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4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week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62120" y="2071800"/>
            <a:ext cx="7696080" cy="520560"/>
            <a:chOff x="762120" y="2071800"/>
            <a:chExt cx="7696080" cy="520560"/>
          </a:xfrm>
        </p:grpSpPr>
        <p:sp>
          <p:nvSpPr>
            <p:cNvPr id="225" name=""/>
            <p:cNvSpPr/>
            <p:nvPr/>
          </p:nvSpPr>
          <p:spPr>
            <a:xfrm>
              <a:off x="762120" y="207180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Employment Perio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4280" y="207180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Notice Require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143000" y="5676840"/>
            <a:ext cx="6400800" cy="457200"/>
            <a:chOff x="1143000" y="5676840"/>
            <a:chExt cx="6400800" cy="457200"/>
          </a:xfrm>
        </p:grpSpPr>
        <p:sp>
          <p:nvSpPr>
            <p:cNvPr id="228" name=""/>
            <p:cNvSpPr/>
            <p:nvPr/>
          </p:nvSpPr>
          <p:spPr>
            <a:xfrm>
              <a:off x="1143000" y="5676840"/>
              <a:ext cx="365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7800" y="567684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8B8-E7F2-4DFA-B0C0-4C0901568DC0}" type="slidenum">
              <a:t>17</a:t>
            </a:fld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hen notice is not given, the employee must be paid his/her regular wages in lieu of the notice time requi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752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ay in Lieu of Notice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68A-3B78-432D-BB35-215BF6802A03}" type="slidenum">
              <a:t>18</a:t>
            </a:fld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Annual Holiday Pa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19810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nnual holiday pay is paid to all employees includ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352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ull-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900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art-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4419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asu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952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empo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5486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eas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518080" y="3062160"/>
          <a:ext cx="2414520" cy="31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8080" y="3062160"/>
                    <a:ext cx="2414520" cy="31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170-BDE9-4B5E-A2FD-86D63677D50F}" type="slidenum">
              <a:t>19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Labour Standards Ac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220968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429000" y="3581280"/>
            <a:ext cx="42670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100000"/>
              </a:lnSpc>
              <a:spcBef>
                <a:spcPts val="13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923080" y="2209680"/>
          <a:ext cx="1849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3080" y="2209680"/>
                    <a:ext cx="1849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62120" y="1981080"/>
            <a:ext cx="4800600" cy="1295640"/>
          </a:xfrm>
          <a:prstGeom prst="wedgeRoundRectCallout">
            <a:avLst>
              <a:gd name="adj1" fmla="val 70171"/>
              <a:gd name="adj2" fmla="val 3800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cts workers by setting rules for minimum conditions of employ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733920"/>
            <a:ext cx="4952880" cy="1828800"/>
          </a:xfrm>
          <a:prstGeom prst="wedgeEllipseCallout">
            <a:avLst>
              <a:gd name="adj1" fmla="val 78111"/>
              <a:gd name="adj2" fmla="val -8055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s what we value as a society is reflected in our workplace r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95880"/>
            <a:ext cx="5257800" cy="685800"/>
          </a:xfrm>
          <a:prstGeom prst="wedgeRectCallout">
            <a:avLst>
              <a:gd name="adj1" fmla="val 69050"/>
              <a:gd name="adj2" fmla="val -342592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s unfair competi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9DC-36F9-4B57-997B-79389F187D15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Annual Holiday Pay</a:t>
            </a: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1337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alculated on total wages over a 12-month period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200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576"/>
              </a:spcBef>
              <a:spcAft>
                <a:spcPts val="1576"/>
              </a:spcAft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ultiply wages by 3/52 (about 6%)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098960"/>
            <a:ext cx="77724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Wages for 12 months:       $400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Annual Holiday Pa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$4000 x 3/52 (6%) =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$230.7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867280" y="4572000"/>
            <a:ext cx="2865600" cy="210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5F4-0907-4D9D-BA9B-320519E6EA30}" type="slidenum">
              <a:t>20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Annual Holiday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895480"/>
            <a:ext cx="7162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Most employees are entitled to a minimum of three weeks after each year of employment and a minimum of four weeks upon completion of 10 years with the same employ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995480"/>
            <a:ext cx="487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ACF-929A-446D-ADC1-DAD59FEAC646}" type="slidenum">
              <a:t>21</a:t>
            </a:fld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ublic Holidays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14400" y="2057400"/>
            <a:ext cx="7848720" cy="4495680"/>
            <a:chOff x="914400" y="2057400"/>
            <a:chExt cx="7848720" cy="44956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1301760" y="3200400"/>
              <a:ext cx="22795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800600" y="5029200"/>
              <a:ext cx="335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Remembrance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14400" y="20574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New Year’s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14400" y="266688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Good Fri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14400" y="33526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Victoria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00600" y="57294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Christmas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213372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Canada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00600" y="281952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Saskatchewan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00600" y="35812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Labour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42670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Thanksgiving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C30-7D5F-4FDF-A7BB-A2A2F2F8D367}" type="slidenum">
              <a:t>22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ublic Holiday Pay</a:t>
            </a: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697880" y="2705040"/>
          <a:ext cx="121752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7880" y="2705040"/>
                    <a:ext cx="12175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04920" y="1981080"/>
            <a:ext cx="6095880" cy="4953240"/>
          </a:xfrm>
          <a:prstGeom prst="cloudCallout">
            <a:avLst>
              <a:gd name="adj1" fmla="val 73856"/>
              <a:gd name="adj2" fmla="val -3009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employees get public holiday pay of 1/20 (5%) of the worker’s regular wages earned during the four weeks prior to the holiday (equal to about a regular day’s w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23D-373E-48D2-8E5C-6D38088D7767}" type="slidenum">
              <a:t>23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ublic Holiday Pa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2895480"/>
            <a:ext cx="571500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4600" indent="-174600"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4 weeks wages:            $4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4600" indent="-17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ublic Holiday Pay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4600" indent="-17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1/20 or 5% x $400) = $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971800" cy="26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757-D3B9-458B-BC81-3CF34266B1B1}" type="slidenum">
              <a:t>24</a:t>
            </a:fld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ayment for Work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on a Public Holida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f you work on a public holiday, you  get paid a premium rate (time and one half) for all hours worked. This in addition to public holiday p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2590920"/>
            <a:ext cx="4114800" cy="29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9760" indent="-239760" algn="ctr">
              <a:lnSpc>
                <a:spcPct val="100000"/>
              </a:lnSpc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Public Holiday P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Premium P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(1.5 x hours worked on the public holiday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58000" y="5276880"/>
            <a:ext cx="236232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C06-3C88-4A41-91BA-E196155E5501}" type="slidenum">
              <a:t>25</a:t>
            </a:fld>
          </a:p>
        </p:txBody>
      </p: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spcBef>
                <a:spcPts val="21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ay Cheque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00240" y="22856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nly deductions required by law (Employment Insurance, Income Tax, C.P.P.) or voluntary employee purchases from the employer, may be taken from wag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5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B54-5594-4EB6-88FC-A51CCB89771D}" type="slidenum">
              <a:t>26</a:t>
            </a:fld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931280" y="762120"/>
            <a:ext cx="344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ay Chequ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828880" cy="2514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04920" y="19810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Your employer must provide a pay stub which gives information such as: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3255840"/>
            <a:ext cx="53337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ay peri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hours worked (regular and overtime) and rate of pa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list of dedu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otal earnings and actual payment ma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CB2-7D20-44E4-8A4E-A5D8F750678E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1584360" cy="1600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Equal Pay</a:t>
            </a:r>
            <a:r>
              <a:rPr b="0" i="1" lang="en-US" sz="3600" spc="-1" strike="noStrike">
                <a:solidFill>
                  <a:srgbClr val="ffcc66"/>
                </a:solidFill>
                <a:latin typeface="Bremen Blk BT"/>
              </a:rPr>
              <a:t>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ale and female employees are entitled to equal pay when they perform similar work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3200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n the same establish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419112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under similar working condi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5334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requiring similar skill,effort,and responsi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2052720" cy="27561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5351400"/>
            <a:ext cx="1523880" cy="1506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352680" y="5334120"/>
            <a:ext cx="1509840" cy="15238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919160" y="4572000"/>
            <a:ext cx="1509840" cy="2286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919080" y="5334120"/>
            <a:ext cx="14432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D72-407E-4079-BD02-1A9A4311EE12}" type="slidenum">
              <a:t>28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Equal Pa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943760" y="4038480"/>
          <a:ext cx="12002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43760" y="4038480"/>
                    <a:ext cx="12002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304920" y="2057400"/>
          <a:ext cx="979200" cy="26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057400"/>
                    <a:ext cx="979200" cy="26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228600" y="4343400"/>
            <a:ext cx="5791320" cy="1981080"/>
          </a:xfrm>
          <a:prstGeom prst="wedgeEllipseCallout">
            <a:avLst>
              <a:gd name="adj1" fmla="val 90981"/>
              <a:gd name="adj2" fmla="val -42949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it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iority,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inee progra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2057400"/>
            <a:ext cx="4572000" cy="1905120"/>
          </a:xfrm>
          <a:prstGeom prst="wedgeEllipseCallout">
            <a:avLst>
              <a:gd name="adj1" fmla="val -111597"/>
              <a:gd name="adj2" fmla="val -35416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y rates can differ when based 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2D2-AF2F-4AF1-9D39-A90119BC7FC0}" type="slidenum">
              <a:t>29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Labour Standards Ac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The Act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applies to most Saskatchewan employers and employees, no matter the hours employees work. This includes casual, part-time, seasonal and full-time worke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2340000"/>
            <a:ext cx="3809880" cy="354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FA2-1818-40EC-865D-91F6BAB8E15E}" type="slidenum">
              <a:t>3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mplaints and Enforcemen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askatchewan Labour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04812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ovides information and adv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403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nvestigates and helps to resolve workplace complain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648320" y="2208240"/>
            <a:ext cx="3809880" cy="38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0C3-A8A6-4BAE-BF73-4F82D16ACF7D}" type="slidenum">
              <a:t>30</a:t>
            </a:fld>
          </a:p>
        </p:txBody>
      </p:sp>
    </p:spTree>
  </p:cSld>
  <p:transition>
    <p:random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mplaints and Enforcemen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n employee must make a claim for unpaid wages within one year of the time the unpaid wages were d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32320" cy="39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A58-310E-4E4C-B02A-FEFD17BF3DC2}" type="slidenum">
              <a:t>31</a:t>
            </a:fld>
          </a:p>
        </p:txBody>
      </p:sp>
    </p:spTree>
  </p:cSld>
  <p:transition>
    <p:random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mplaints and Enforcemen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38080" y="2209680"/>
            <a:ext cx="5486400" cy="4687200"/>
            <a:chOff x="838080" y="2209680"/>
            <a:chExt cx="5486400" cy="4687200"/>
          </a:xfrm>
        </p:grpSpPr>
        <p:sp>
          <p:nvSpPr>
            <p:cNvPr id="312" name=""/>
            <p:cNvSpPr/>
            <p:nvPr/>
          </p:nvSpPr>
          <p:spPr>
            <a:xfrm>
              <a:off x="838080" y="4724280"/>
              <a:ext cx="548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2040" indent="-392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3. Ask for early resolution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080" y="2209680"/>
              <a:ext cx="510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6560" indent="-466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1. Call Sask. Labour for   information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8080" y="3505320"/>
              <a:ext cx="43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63400" indent="-5634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2. Try to resolve with employer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8080" y="5638680"/>
              <a:ext cx="5334120" cy="12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4. Make a formal complaint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019920" y="2743200"/>
            <a:ext cx="2685960" cy="24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06F-83BE-49F0-B2DB-1C857A16F792}" type="slidenum">
              <a:t>32</a:t>
            </a:fld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mplaints and Enforcemen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2743200"/>
            <a:ext cx="46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. Complaint is investiga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38098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8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6. Officer tries to collect money ow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5408640"/>
            <a:ext cx="36576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7. Officer issues wage assessment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81952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4720" indent="-50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. Employer or                                     employee appeal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4240" y="4114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9. Final decision can be appeal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1C1-0D5E-4BF2-B6BE-FD8679E46E2C}" type="slidenum">
              <a:t>33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477120" y="5175360"/>
            <a:ext cx="2438280" cy="1530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750400" y="3048120"/>
            <a:ext cx="428796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-800-667-178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2"/>
              </a:rPr>
              <a:t>www.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3"/>
              </a:rPr>
              <a:t>labour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5"/>
              </a:rPr>
              <a:t>gov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7"/>
              </a:rPr>
              <a:t>sk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8"/>
              </a:rPr>
              <a:t>.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9"/>
              </a:rPr>
              <a:t>www.readyforwork.sk.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Saskatchewan Labour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24382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askatchewan Labo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Labour Standards Divi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6320" y="6084720"/>
          <a:ext cx="1447560" cy="690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320" y="6084720"/>
                    <a:ext cx="14475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906-8742-4830-884C-7197CA8915DF}" type="slidenum">
              <a:t>34</a:t>
            </a:fld>
          </a:p>
        </p:txBody>
      </p:sp>
    </p:spTree>
  </p:cSld>
  <p:transition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                          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Exemp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0574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arm work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573280"/>
            <a:ext cx="449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mployees who work in jobs that are covered by the federal Canada Labour C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7386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ccasional babysit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533232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artial exemptions  (i.e., managers and student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09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CBD-D420-4CF7-8CEA-156CE9FF8F53}" type="slidenum">
              <a:t>4</a:t>
            </a:fld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Labour Standards Ac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33526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26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•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qual p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2057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Young workers are most often affected by the rules involv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6920" y="4630680"/>
            <a:ext cx="2209680" cy="1998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33526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Font typeface="Comic Sans MS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inimum w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9625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hours of 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5514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ermi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195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ublic holid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7913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nnual holid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3962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ayroll cheque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BB9-8302-4C95-B33C-803CD92AFF99}" type="slidenum">
              <a:t>5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inimum Wage </a:t>
            </a:r>
            <a:br>
              <a:rPr sz="4800"/>
            </a:b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(as of April1/03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3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209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B.C.  $8.00/6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lta.  $5.9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352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omic Sans MS"/>
              </a:rPr>
              <a:t>Sask.  $6.65</a:t>
            </a: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35000" y="3962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an.  $6.7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57200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nt.  $6.85/6.40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$5.9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5000" y="5576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Que.  $7.30/6.5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560" y="2133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7412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.B.  $6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3240" y="2743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239760"/>
                <a:tab algn="l" pos="39204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.S.  $6.00/5.5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720" y="33526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.E.I.  $6.2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81560" y="3962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fld.  $6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42000" y="457200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.W.T.  $7.00/6.5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37280" y="5181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Yukon  $7.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1760" y="5791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unavut  $7.00/6.5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9A1-BC74-4622-9265-D79AEB67E64A}" type="slidenum">
              <a:t>6</a:t>
            </a:fld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inimum Callout 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• </a:t>
            </a:r>
            <a:r>
              <a:rPr b="1" lang="en-US" sz="26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M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st employees are entitled to a minimum payment of $19.95 every time their employer calls them out (or in) to wor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47960" y="2209320"/>
            <a:ext cx="3809880" cy="4045320"/>
            <a:chOff x="4647960" y="2209320"/>
            <a:chExt cx="3809880" cy="4045320"/>
          </a:xfrm>
        </p:grpSpPr>
        <p:sp>
          <p:nvSpPr>
            <p:cNvPr id="152" name="PlaceHolder 3"/>
            <p:cNvSpPr>
              <a:spLocks noGrp="1"/>
            </p:cNvSpPr>
            <p:nvPr>
              <p:ph/>
            </p:nvPr>
          </p:nvSpPr>
          <p:spPr>
            <a:xfrm>
              <a:off x="4647960" y="2209320"/>
              <a:ext cx="380988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 fontScale="96000"/>
            </a:bodyPr>
            <a:p>
              <a:pPr marL="329040" indent="0">
                <a:lnSpc>
                  <a:spcPct val="100000"/>
                </a:lnSpc>
                <a:spcBef>
                  <a:spcPts val="7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Comic Sans MS"/>
                  <a:ea typeface="Microsoft Sans Serif"/>
                </a:rPr>
                <a:t>• </a:t>
              </a:r>
              <a:r>
                <a:rPr b="1" lang="en-US" sz="2600" spc="-1" strike="noStrike">
                  <a:solidFill>
                    <a:srgbClr val="ffffcc"/>
                  </a:solidFill>
                  <a:latin typeface="Comic Sans MS"/>
                  <a:ea typeface="Microsoft Sans Serif"/>
                </a:rPr>
                <a:t>F</a:t>
              </a: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ull-time students are exempt during the school year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4724280" y="3809880"/>
              <a:ext cx="3657600" cy="244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19A-37CE-4104-842D-86734B29585B}" type="slidenum">
              <a:t>7</a:t>
            </a:fld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ffee Break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39621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•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ffee breaks are not covered by Saskatchewan’s Labour Standards Ac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2416320"/>
            <a:ext cx="3809880" cy="3395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724280" y="480060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f provided, rest breaks (coffee breaks) are paid brea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90C-01E9-445D-BEB9-7A0D91A7A12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93680" y="4191120"/>
          <a:ext cx="117792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4191120"/>
                    <a:ext cx="11779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09720" y="5331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ffcc66"/>
                </a:solidFill>
                <a:latin typeface="Times New Roman"/>
              </a:rPr>
              <a:t>Uniform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286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800600"/>
            <a:ext cx="51055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>
              <a:lnSpc>
                <a:spcPct val="120000"/>
              </a:lnSpc>
              <a:spcBef>
                <a:spcPts val="15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69920">
              <a:lnSpc>
                <a:spcPct val="120000"/>
              </a:lnSpc>
              <a:spcBef>
                <a:spcPts val="15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848720" y="1967040"/>
          <a:ext cx="1168200" cy="29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1967040"/>
                    <a:ext cx="1168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rot="117000">
            <a:off x="380880" y="1447920"/>
            <a:ext cx="5131080" cy="2971800"/>
          </a:xfrm>
          <a:prstGeom prst="wedgeEllipseCallout">
            <a:avLst>
              <a:gd name="adj1" fmla="val 98888"/>
              <a:gd name="adj2" fmla="val -288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6200" indent="-428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Employers in hotels, restaurants, educational institutions, hospitals, or nursing homes who require their employees to wear unifo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800600"/>
            <a:ext cx="5638680" cy="2057400"/>
          </a:xfrm>
          <a:prstGeom prst="wedgeEllipseCallout">
            <a:avLst>
              <a:gd name="adj1" fmla="val -91777"/>
              <a:gd name="adj2" fmla="val -6373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6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shall provide, repair and launder that uniform free of charge and shall not deduct the cost from your wag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4E5-D2EE-49CF-925D-DA17309D394E}" type="slidenum">
              <a:t>9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21:15:35Z</dcterms:created>
  <dc:creator>Saskatchewan Labour</dc:creator>
  <dc:description/>
  <dc:language>en-US</dc:language>
  <cp:lastModifiedBy>Prairie South</cp:lastModifiedBy>
  <dcterms:modified xsi:type="dcterms:W3CDTF">2009-03-01T20:59:15Z</dcterms:modified>
  <cp:revision>111</cp:revision>
  <dc:subject/>
  <dc:title>Students in the Workplace</dc:title>
</cp:coreProperties>
</file>